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357-98EA-4382-AC89-9EC5D339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6E2-8B55-4132-A381-4C19B363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6A0-6B89-40A9-898D-54866913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28A-3FD0-40C5-9C56-054B953B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B63-5CD1-4F21-971B-7C8CEDDC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481-45D8-41C5-964B-045F4DD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A9E-135D-47D9-85B3-16417DC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9A9-5FA9-4990-A735-EB8B806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38E-48CE-45B7-9207-F39D4B2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EED-7FC7-4056-A84F-F8330B9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9F0-8BF9-4036-AB20-D5483AD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04C-B2E8-4942-8849-D0CEC96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1B5D-5150-4E18-A396-5A03FDA7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41720"/>
            <a:ext cx="1512720" cy="115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997360"/>
            <a:ext cx="151164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522936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484280"/>
            <a:ext cx="2880000" cy="936720"/>
          </a:xfrm>
          <a:prstGeom prst="wedgeRectCallout">
            <a:avLst>
              <a:gd name="adj1" fmla="val -43768"/>
              <a:gd name="adj2" fmla="val 134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you notic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´s the problem with this ch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0.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3276720"/>
            <a:ext cx="1822320" cy="1349280"/>
          </a:xfrm>
          <a:custGeom>
            <a:avLst/>
            <a:gdLst/>
            <a:ahLst/>
            <a:rect l="l" t="t" r="r" b="b"/>
            <a:pathLst>
              <a:path w="5061" h="3747">
                <a:moveTo>
                  <a:pt x="7689" y="9153"/>
                </a:moveTo>
                <a:cubicBezTo>
                  <a:pt x="7689" y="9186"/>
                  <a:pt x="7699" y="9171"/>
                  <a:pt x="7689" y="9203"/>
                </a:cubicBezTo>
                <a:cubicBezTo>
                  <a:pt x="7678" y="9241"/>
                  <a:pt x="7667" y="9259"/>
                  <a:pt x="7665" y="9302"/>
                </a:cubicBezTo>
                <a:cubicBezTo>
                  <a:pt x="7662" y="9364"/>
                  <a:pt x="7650" y="9393"/>
                  <a:pt x="7640" y="9451"/>
                </a:cubicBezTo>
                <a:cubicBezTo>
                  <a:pt x="7633" y="9494"/>
                  <a:pt x="7620" y="9533"/>
                  <a:pt x="7615" y="9575"/>
                </a:cubicBezTo>
                <a:cubicBezTo>
                  <a:pt x="7606" y="9649"/>
                  <a:pt x="7599" y="9735"/>
                  <a:pt x="7590" y="9798"/>
                </a:cubicBezTo>
                <a:cubicBezTo>
                  <a:pt x="7580" y="9865"/>
                  <a:pt x="7575" y="9933"/>
                  <a:pt x="7565" y="9996"/>
                </a:cubicBezTo>
                <a:cubicBezTo>
                  <a:pt x="7551" y="10083"/>
                  <a:pt x="7580" y="10173"/>
                  <a:pt x="7590" y="10244"/>
                </a:cubicBezTo>
                <a:cubicBezTo>
                  <a:pt x="7596" y="10289"/>
                  <a:pt x="7611" y="10359"/>
                  <a:pt x="7615" y="10393"/>
                </a:cubicBezTo>
                <a:cubicBezTo>
                  <a:pt x="7621" y="10446"/>
                  <a:pt x="7633" y="10500"/>
                  <a:pt x="7640" y="10542"/>
                </a:cubicBezTo>
                <a:cubicBezTo>
                  <a:pt x="7652" y="10616"/>
                  <a:pt x="7653" y="10694"/>
                  <a:pt x="7665" y="10765"/>
                </a:cubicBezTo>
                <a:cubicBezTo>
                  <a:pt x="7673" y="10812"/>
                  <a:pt x="7684" y="10877"/>
                  <a:pt x="7689" y="10914"/>
                </a:cubicBezTo>
                <a:cubicBezTo>
                  <a:pt x="7695" y="10964"/>
                  <a:pt x="7708" y="11017"/>
                  <a:pt x="7714" y="11063"/>
                </a:cubicBezTo>
                <a:cubicBezTo>
                  <a:pt x="7720" y="11113"/>
                  <a:pt x="7732" y="11144"/>
                  <a:pt x="7739" y="11187"/>
                </a:cubicBezTo>
                <a:cubicBezTo>
                  <a:pt x="7749" y="11249"/>
                  <a:pt x="7747" y="11325"/>
                  <a:pt x="7764" y="11385"/>
                </a:cubicBezTo>
                <a:cubicBezTo>
                  <a:pt x="7782" y="11450"/>
                  <a:pt x="7789" y="11490"/>
                  <a:pt x="7789" y="11559"/>
                </a:cubicBezTo>
                <a:cubicBezTo>
                  <a:pt x="7789" y="11716"/>
                  <a:pt x="7789" y="11873"/>
                  <a:pt x="7789" y="12030"/>
                </a:cubicBezTo>
              </a:path>
              <a:path w="5061" h="3747">
                <a:moveTo>
                  <a:pt x="7293" y="12427"/>
                </a:moveTo>
                <a:cubicBezTo>
                  <a:pt x="7281" y="12462"/>
                  <a:pt x="7286" y="12452"/>
                  <a:pt x="7243" y="12452"/>
                </a:cubicBezTo>
                <a:cubicBezTo>
                  <a:pt x="7190" y="12434"/>
                  <a:pt x="7236" y="12410"/>
                  <a:pt x="7268" y="12378"/>
                </a:cubicBezTo>
                <a:cubicBezTo>
                  <a:pt x="7305" y="12341"/>
                  <a:pt x="7340" y="12353"/>
                  <a:pt x="7392" y="12353"/>
                </a:cubicBezTo>
                <a:cubicBezTo>
                  <a:pt x="7484" y="12353"/>
                  <a:pt x="7488" y="12428"/>
                  <a:pt x="7491" y="12502"/>
                </a:cubicBezTo>
                <a:cubicBezTo>
                  <a:pt x="7495" y="12593"/>
                  <a:pt x="7514" y="12684"/>
                  <a:pt x="7417" y="12725"/>
                </a:cubicBezTo>
                <a:cubicBezTo>
                  <a:pt x="7351" y="12753"/>
                  <a:pt x="7291" y="12642"/>
                  <a:pt x="7268" y="12601"/>
                </a:cubicBezTo>
                <a:cubicBezTo>
                  <a:pt x="7248" y="12560"/>
                  <a:pt x="7239" y="12554"/>
                  <a:pt x="7243" y="12526"/>
                </a:cubicBezTo>
              </a:path>
              <a:path w="5061" h="3747">
                <a:moveTo>
                  <a:pt x="7640" y="12700"/>
                </a:moveTo>
                <a:cubicBezTo>
                  <a:pt x="7648" y="12708"/>
                  <a:pt x="7657" y="12717"/>
                  <a:pt x="7665" y="12725"/>
                </a:cubicBezTo>
              </a:path>
              <a:path w="5061" h="3747">
                <a:moveTo>
                  <a:pt x="7863" y="12502"/>
                </a:moveTo>
                <a:cubicBezTo>
                  <a:pt x="7885" y="12458"/>
                  <a:pt x="7888" y="12446"/>
                  <a:pt x="7913" y="12427"/>
                </a:cubicBezTo>
                <a:cubicBezTo>
                  <a:pt x="7913" y="12481"/>
                  <a:pt x="7897" y="12509"/>
                  <a:pt x="7888" y="12551"/>
                </a:cubicBezTo>
                <a:cubicBezTo>
                  <a:pt x="7876" y="12608"/>
                  <a:pt x="7879" y="12708"/>
                  <a:pt x="7913" y="12750"/>
                </a:cubicBezTo>
                <a:cubicBezTo>
                  <a:pt x="7939" y="12782"/>
                  <a:pt x="7994" y="12815"/>
                  <a:pt x="8037" y="12799"/>
                </a:cubicBezTo>
                <a:cubicBezTo>
                  <a:pt x="8100" y="12776"/>
                  <a:pt x="8118" y="12774"/>
                  <a:pt x="8186" y="12774"/>
                </a:cubicBezTo>
                <a:cubicBezTo>
                  <a:pt x="8240" y="12774"/>
                  <a:pt x="8265" y="12794"/>
                  <a:pt x="8310" y="12799"/>
                </a:cubicBezTo>
                <a:cubicBezTo>
                  <a:pt x="8318" y="12799"/>
                  <a:pt x="8326" y="12799"/>
                  <a:pt x="8334" y="12799"/>
                </a:cubicBezTo>
              </a:path>
              <a:path w="5061" h="3747">
                <a:moveTo>
                  <a:pt x="8260" y="12774"/>
                </a:moveTo>
                <a:cubicBezTo>
                  <a:pt x="8187" y="12738"/>
                  <a:pt x="8182" y="12721"/>
                  <a:pt x="8136" y="12725"/>
                </a:cubicBezTo>
                <a:cubicBezTo>
                  <a:pt x="8116" y="12771"/>
                  <a:pt x="8106" y="12802"/>
                  <a:pt x="8086" y="12849"/>
                </a:cubicBezTo>
              </a:path>
              <a:path w="5061" h="3747">
                <a:moveTo>
                  <a:pt x="7144" y="11559"/>
                </a:moveTo>
                <a:cubicBezTo>
                  <a:pt x="7177" y="11559"/>
                  <a:pt x="7210" y="11559"/>
                  <a:pt x="7243" y="11559"/>
                </a:cubicBezTo>
                <a:cubicBezTo>
                  <a:pt x="7229" y="11615"/>
                  <a:pt x="7151" y="11633"/>
                  <a:pt x="7094" y="11658"/>
                </a:cubicBezTo>
                <a:cubicBezTo>
                  <a:pt x="6924" y="11733"/>
                  <a:pt x="6762" y="11819"/>
                  <a:pt x="6598" y="11906"/>
                </a:cubicBezTo>
                <a:cubicBezTo>
                  <a:pt x="6565" y="11923"/>
                  <a:pt x="6532" y="11939"/>
                  <a:pt x="6499" y="11956"/>
                </a:cubicBezTo>
              </a:path>
              <a:path w="5061" h="3747">
                <a:moveTo>
                  <a:pt x="7293" y="10691"/>
                </a:moveTo>
                <a:cubicBezTo>
                  <a:pt x="7330" y="10634"/>
                  <a:pt x="7346" y="10631"/>
                  <a:pt x="7342" y="10592"/>
                </a:cubicBezTo>
                <a:cubicBezTo>
                  <a:pt x="7220" y="10657"/>
                  <a:pt x="7069" y="10720"/>
                  <a:pt x="6945" y="10790"/>
                </a:cubicBezTo>
                <a:cubicBezTo>
                  <a:pt x="6679" y="10939"/>
                  <a:pt x="6431" y="11120"/>
                  <a:pt x="6176" y="11286"/>
                </a:cubicBezTo>
                <a:cubicBezTo>
                  <a:pt x="6048" y="11363"/>
                  <a:pt x="6003" y="11391"/>
                  <a:pt x="5928" y="11460"/>
                </a:cubicBezTo>
              </a:path>
              <a:path w="5061" h="3747">
                <a:moveTo>
                  <a:pt x="6722" y="9252"/>
                </a:moveTo>
                <a:cubicBezTo>
                  <a:pt x="6730" y="9202"/>
                  <a:pt x="6739" y="9153"/>
                  <a:pt x="6747" y="9103"/>
                </a:cubicBezTo>
                <a:cubicBezTo>
                  <a:pt x="6663" y="9153"/>
                  <a:pt x="6585" y="9202"/>
                  <a:pt x="6499" y="9277"/>
                </a:cubicBezTo>
                <a:cubicBezTo>
                  <a:pt x="6235" y="9510"/>
                  <a:pt x="5972" y="9743"/>
                  <a:pt x="5705" y="9971"/>
                </a:cubicBezTo>
                <a:cubicBezTo>
                  <a:pt x="5460" y="10181"/>
                  <a:pt x="5217" y="10396"/>
                  <a:pt x="4961" y="10592"/>
                </a:cubicBezTo>
                <a:cubicBezTo>
                  <a:pt x="4765" y="10742"/>
                  <a:pt x="4546" y="10875"/>
                  <a:pt x="4341" y="11013"/>
                </a:cubicBezTo>
                <a:cubicBezTo>
                  <a:pt x="4217" y="11088"/>
                  <a:pt x="4176" y="11113"/>
                  <a:pt x="4093" y="11162"/>
                </a:cubicBezTo>
              </a:path>
              <a:path w="5061" h="3747">
                <a:moveTo>
                  <a:pt x="4986" y="9723"/>
                </a:moveTo>
                <a:cubicBezTo>
                  <a:pt x="4824" y="9796"/>
                  <a:pt x="4703" y="9883"/>
                  <a:pt x="4564" y="9996"/>
                </a:cubicBezTo>
                <a:cubicBezTo>
                  <a:pt x="4351" y="10170"/>
                  <a:pt x="4175" y="10383"/>
                  <a:pt x="3969" y="10567"/>
                </a:cubicBezTo>
                <a:cubicBezTo>
                  <a:pt x="3803" y="10715"/>
                  <a:pt x="3622" y="10851"/>
                  <a:pt x="3448" y="10988"/>
                </a:cubicBezTo>
                <a:cubicBezTo>
                  <a:pt x="3354" y="11059"/>
                  <a:pt x="3325" y="11080"/>
                  <a:pt x="327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5240" y="3867120"/>
            <a:ext cx="652680" cy="892080"/>
          </a:xfrm>
          <a:custGeom>
            <a:avLst/>
            <a:gdLst/>
            <a:ahLst/>
            <a:rect l="l" t="t" r="r" b="b"/>
            <a:pathLst>
              <a:path w="1812" h="2482">
                <a:moveTo>
                  <a:pt x="21357" y="10864"/>
                </a:moveTo>
                <a:cubicBezTo>
                  <a:pt x="21347" y="10825"/>
                  <a:pt x="21332" y="10810"/>
                  <a:pt x="21332" y="10765"/>
                </a:cubicBezTo>
                <a:cubicBezTo>
                  <a:pt x="21332" y="10703"/>
                  <a:pt x="21308" y="10824"/>
                  <a:pt x="21307" y="10840"/>
                </a:cubicBezTo>
                <a:cubicBezTo>
                  <a:pt x="21301" y="10965"/>
                  <a:pt x="21268" y="11087"/>
                  <a:pt x="21258" y="11212"/>
                </a:cubicBezTo>
                <a:cubicBezTo>
                  <a:pt x="21248" y="11346"/>
                  <a:pt x="21219" y="11476"/>
                  <a:pt x="21208" y="11609"/>
                </a:cubicBezTo>
                <a:cubicBezTo>
                  <a:pt x="21199" y="11712"/>
                  <a:pt x="21163" y="11805"/>
                  <a:pt x="21158" y="11906"/>
                </a:cubicBezTo>
                <a:cubicBezTo>
                  <a:pt x="21155" y="11962"/>
                  <a:pt x="21174" y="11967"/>
                  <a:pt x="21134" y="11981"/>
                </a:cubicBezTo>
              </a:path>
              <a:path w="1812" h="2482">
                <a:moveTo>
                  <a:pt x="21977" y="11187"/>
                </a:moveTo>
                <a:cubicBezTo>
                  <a:pt x="22033" y="11138"/>
                  <a:pt x="22098" y="11112"/>
                  <a:pt x="22151" y="11063"/>
                </a:cubicBezTo>
                <a:cubicBezTo>
                  <a:pt x="22173" y="11040"/>
                  <a:pt x="22181" y="11035"/>
                  <a:pt x="22175" y="11013"/>
                </a:cubicBezTo>
                <a:cubicBezTo>
                  <a:pt x="22070" y="11103"/>
                  <a:pt x="21934" y="11150"/>
                  <a:pt x="21828" y="11237"/>
                </a:cubicBezTo>
                <a:cubicBezTo>
                  <a:pt x="21680" y="11359"/>
                  <a:pt x="21537" y="11497"/>
                  <a:pt x="21431" y="11658"/>
                </a:cubicBezTo>
                <a:cubicBezTo>
                  <a:pt x="21423" y="11675"/>
                  <a:pt x="21414" y="11691"/>
                  <a:pt x="21406" y="11708"/>
                </a:cubicBezTo>
              </a:path>
              <a:path w="1812" h="2482">
                <a:moveTo>
                  <a:pt x="22473" y="11187"/>
                </a:moveTo>
                <a:cubicBezTo>
                  <a:pt x="22506" y="11179"/>
                  <a:pt x="22539" y="11170"/>
                  <a:pt x="22572" y="11162"/>
                </a:cubicBezTo>
                <a:cubicBezTo>
                  <a:pt x="22516" y="11275"/>
                  <a:pt x="22391" y="11391"/>
                  <a:pt x="22299" y="11485"/>
                </a:cubicBezTo>
                <a:cubicBezTo>
                  <a:pt x="22150" y="11637"/>
                  <a:pt x="22011" y="11798"/>
                  <a:pt x="21903" y="11981"/>
                </a:cubicBezTo>
              </a:path>
              <a:path w="1812" h="2482">
                <a:moveTo>
                  <a:pt x="22622" y="11609"/>
                </a:moveTo>
                <a:cubicBezTo>
                  <a:pt x="22714" y="11535"/>
                  <a:pt x="22725" y="11531"/>
                  <a:pt x="22771" y="11485"/>
                </a:cubicBezTo>
                <a:cubicBezTo>
                  <a:pt x="22727" y="11614"/>
                  <a:pt x="22599" y="11729"/>
                  <a:pt x="22498" y="11832"/>
                </a:cubicBezTo>
                <a:cubicBezTo>
                  <a:pt x="22396" y="11937"/>
                  <a:pt x="22319" y="12044"/>
                  <a:pt x="22225" y="12154"/>
                </a:cubicBezTo>
              </a:path>
              <a:path w="1812" h="2482">
                <a:moveTo>
                  <a:pt x="20985" y="12675"/>
                </a:moveTo>
                <a:cubicBezTo>
                  <a:pt x="21005" y="12629"/>
                  <a:pt x="21014" y="12582"/>
                  <a:pt x="21010" y="12601"/>
                </a:cubicBezTo>
                <a:cubicBezTo>
                  <a:pt x="20992" y="12695"/>
                  <a:pt x="20963" y="12773"/>
                  <a:pt x="20960" y="12874"/>
                </a:cubicBezTo>
                <a:cubicBezTo>
                  <a:pt x="20960" y="12907"/>
                  <a:pt x="20960" y="12940"/>
                  <a:pt x="20960" y="12973"/>
                </a:cubicBezTo>
              </a:path>
              <a:path w="1812" h="2482">
                <a:moveTo>
                  <a:pt x="21158" y="12973"/>
                </a:moveTo>
                <a:cubicBezTo>
                  <a:pt x="21231" y="12983"/>
                  <a:pt x="21238" y="13004"/>
                  <a:pt x="21258" y="13072"/>
                </a:cubicBezTo>
                <a:cubicBezTo>
                  <a:pt x="21258" y="13080"/>
                  <a:pt x="21258" y="13089"/>
                  <a:pt x="21258" y="13097"/>
                </a:cubicBezTo>
              </a:path>
              <a:path w="1812" h="2482">
                <a:moveTo>
                  <a:pt x="21605" y="12849"/>
                </a:moveTo>
                <a:cubicBezTo>
                  <a:pt x="21573" y="12770"/>
                  <a:pt x="21545" y="12762"/>
                  <a:pt x="21580" y="12700"/>
                </a:cubicBezTo>
                <a:cubicBezTo>
                  <a:pt x="21612" y="12644"/>
                  <a:pt x="21687" y="12570"/>
                  <a:pt x="21754" y="12551"/>
                </a:cubicBezTo>
                <a:cubicBezTo>
                  <a:pt x="21841" y="12527"/>
                  <a:pt x="21906" y="12621"/>
                  <a:pt x="21878" y="12700"/>
                </a:cubicBezTo>
                <a:cubicBezTo>
                  <a:pt x="21838" y="12814"/>
                  <a:pt x="21750" y="12904"/>
                  <a:pt x="21679" y="12998"/>
                </a:cubicBezTo>
                <a:cubicBezTo>
                  <a:pt x="21643" y="13046"/>
                  <a:pt x="21561" y="13142"/>
                  <a:pt x="21630" y="13196"/>
                </a:cubicBezTo>
                <a:cubicBezTo>
                  <a:pt x="21693" y="13245"/>
                  <a:pt x="21804" y="13221"/>
                  <a:pt x="21878" y="13221"/>
                </a:cubicBezTo>
                <a:cubicBezTo>
                  <a:pt x="21952" y="13221"/>
                  <a:pt x="21977" y="13221"/>
                  <a:pt x="22027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70280" y="4964040"/>
            <a:ext cx="133560" cy="637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3271" y="13866"/>
                </a:moveTo>
                <a:cubicBezTo>
                  <a:pt x="13287" y="13858"/>
                  <a:pt x="13304" y="13849"/>
                  <a:pt x="13320" y="13841"/>
                </a:cubicBezTo>
                <a:cubicBezTo>
                  <a:pt x="13307" y="13801"/>
                  <a:pt x="13273" y="13795"/>
                  <a:pt x="13221" y="13791"/>
                </a:cubicBezTo>
                <a:cubicBezTo>
                  <a:pt x="13140" y="13784"/>
                  <a:pt x="13055" y="13791"/>
                  <a:pt x="12973" y="13791"/>
                </a:cubicBezTo>
              </a:path>
              <a:path w="373" h="175">
                <a:moveTo>
                  <a:pt x="13271" y="13940"/>
                </a:moveTo>
                <a:cubicBezTo>
                  <a:pt x="13312" y="13940"/>
                  <a:pt x="13320" y="13940"/>
                  <a:pt x="13345" y="13940"/>
                </a:cubicBezTo>
                <a:cubicBezTo>
                  <a:pt x="13332" y="13980"/>
                  <a:pt x="13297" y="13965"/>
                  <a:pt x="13246" y="13965"/>
                </a:cubicBezTo>
                <a:cubicBezTo>
                  <a:pt x="13188" y="13965"/>
                  <a:pt x="13130" y="13965"/>
                  <a:pt x="13072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46760" y="4867200"/>
            <a:ext cx="19080" cy="214560"/>
          </a:xfrm>
          <a:custGeom>
            <a:avLst/>
            <a:gdLst/>
            <a:ahLst/>
            <a:rect l="l" t="t" r="r" b="b"/>
            <a:pathLst>
              <a:path w="50" h="596">
                <a:moveTo>
                  <a:pt x="13767" y="13618"/>
                </a:moveTo>
                <a:cubicBezTo>
                  <a:pt x="13776" y="13520"/>
                  <a:pt x="13790" y="13490"/>
                  <a:pt x="13767" y="13593"/>
                </a:cubicBezTo>
                <a:cubicBezTo>
                  <a:pt x="13739" y="13719"/>
                  <a:pt x="13742" y="13836"/>
                  <a:pt x="13742" y="13965"/>
                </a:cubicBezTo>
                <a:cubicBezTo>
                  <a:pt x="13742" y="14048"/>
                  <a:pt x="13742" y="14064"/>
                  <a:pt x="13742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32240" y="506268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4536" y="14064"/>
                </a:moveTo>
                <a:cubicBezTo>
                  <a:pt x="14547" y="14097"/>
                  <a:pt x="14588" y="14100"/>
                  <a:pt x="14635" y="14089"/>
                </a:cubicBezTo>
                <a:cubicBezTo>
                  <a:pt x="14730" y="14067"/>
                  <a:pt x="14810" y="14064"/>
                  <a:pt x="14908" y="14064"/>
                </a:cubicBezTo>
                <a:cubicBezTo>
                  <a:pt x="14957" y="14064"/>
                  <a:pt x="14974" y="14064"/>
                  <a:pt x="15007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0280" y="4857840"/>
            <a:ext cx="625680" cy="384120"/>
          </a:xfrm>
          <a:custGeom>
            <a:avLst/>
            <a:gdLst/>
            <a:ahLst/>
            <a:rect l="l" t="t" r="r" b="b"/>
            <a:pathLst>
              <a:path w="1738" h="1067">
                <a:moveTo>
                  <a:pt x="16247" y="13816"/>
                </a:moveTo>
                <a:cubicBezTo>
                  <a:pt x="16274" y="13781"/>
                  <a:pt x="16272" y="13786"/>
                  <a:pt x="16272" y="13742"/>
                </a:cubicBezTo>
                <a:cubicBezTo>
                  <a:pt x="16272" y="13667"/>
                  <a:pt x="16254" y="13840"/>
                  <a:pt x="16247" y="13915"/>
                </a:cubicBezTo>
                <a:cubicBezTo>
                  <a:pt x="16235" y="14055"/>
                  <a:pt x="16227" y="14198"/>
                  <a:pt x="16222" y="14337"/>
                </a:cubicBezTo>
                <a:cubicBezTo>
                  <a:pt x="16220" y="14386"/>
                  <a:pt x="16222" y="14436"/>
                  <a:pt x="16222" y="14486"/>
                </a:cubicBezTo>
              </a:path>
              <a:path w="1738" h="1067">
                <a:moveTo>
                  <a:pt x="16247" y="13940"/>
                </a:moveTo>
                <a:cubicBezTo>
                  <a:pt x="16247" y="13846"/>
                  <a:pt x="16257" y="13799"/>
                  <a:pt x="16272" y="13717"/>
                </a:cubicBezTo>
                <a:cubicBezTo>
                  <a:pt x="16280" y="13670"/>
                  <a:pt x="16291" y="13563"/>
                  <a:pt x="16371" y="13568"/>
                </a:cubicBezTo>
                <a:cubicBezTo>
                  <a:pt x="16479" y="13574"/>
                  <a:pt x="16514" y="13683"/>
                  <a:pt x="16520" y="13767"/>
                </a:cubicBezTo>
                <a:cubicBezTo>
                  <a:pt x="16528" y="13877"/>
                  <a:pt x="16518" y="13911"/>
                  <a:pt x="16421" y="13965"/>
                </a:cubicBezTo>
                <a:cubicBezTo>
                  <a:pt x="16364" y="13997"/>
                  <a:pt x="16358" y="14006"/>
                  <a:pt x="16297" y="14015"/>
                </a:cubicBezTo>
              </a:path>
              <a:path w="1738" h="1067">
                <a:moveTo>
                  <a:pt x="16818" y="13543"/>
                </a:moveTo>
                <a:cubicBezTo>
                  <a:pt x="16857" y="13504"/>
                  <a:pt x="16858" y="13488"/>
                  <a:pt x="16892" y="13494"/>
                </a:cubicBezTo>
                <a:cubicBezTo>
                  <a:pt x="16871" y="13576"/>
                  <a:pt x="16780" y="13638"/>
                  <a:pt x="16743" y="13717"/>
                </a:cubicBezTo>
                <a:cubicBezTo>
                  <a:pt x="16656" y="13903"/>
                  <a:pt x="16624" y="14085"/>
                  <a:pt x="16619" y="14288"/>
                </a:cubicBezTo>
                <a:cubicBezTo>
                  <a:pt x="16619" y="14380"/>
                  <a:pt x="16617" y="14406"/>
                  <a:pt x="16644" y="14461"/>
                </a:cubicBezTo>
              </a:path>
              <a:path w="1738" h="1067">
                <a:moveTo>
                  <a:pt x="16966" y="13915"/>
                </a:moveTo>
                <a:cubicBezTo>
                  <a:pt x="16950" y="13907"/>
                  <a:pt x="16933" y="13899"/>
                  <a:pt x="16917" y="13891"/>
                </a:cubicBezTo>
                <a:cubicBezTo>
                  <a:pt x="16929" y="13842"/>
                  <a:pt x="16949" y="13834"/>
                  <a:pt x="16991" y="13816"/>
                </a:cubicBezTo>
                <a:cubicBezTo>
                  <a:pt x="17059" y="13787"/>
                  <a:pt x="17136" y="13746"/>
                  <a:pt x="17214" y="13767"/>
                </a:cubicBezTo>
                <a:cubicBezTo>
                  <a:pt x="17277" y="13784"/>
                  <a:pt x="17329" y="13847"/>
                  <a:pt x="17314" y="13915"/>
                </a:cubicBezTo>
                <a:cubicBezTo>
                  <a:pt x="17301" y="13974"/>
                  <a:pt x="17183" y="14100"/>
                  <a:pt x="17140" y="14139"/>
                </a:cubicBezTo>
                <a:cubicBezTo>
                  <a:pt x="17072" y="14201"/>
                  <a:pt x="17018" y="14240"/>
                  <a:pt x="16966" y="14312"/>
                </a:cubicBezTo>
                <a:cubicBezTo>
                  <a:pt x="17089" y="14312"/>
                  <a:pt x="17224" y="14330"/>
                  <a:pt x="17338" y="14288"/>
                </a:cubicBezTo>
              </a:path>
              <a:path w="1738" h="1067">
                <a:moveTo>
                  <a:pt x="17810" y="13940"/>
                </a:moveTo>
                <a:cubicBezTo>
                  <a:pt x="17835" y="13915"/>
                  <a:pt x="17843" y="13907"/>
                  <a:pt x="17859" y="13891"/>
                </a:cubicBezTo>
                <a:cubicBezTo>
                  <a:pt x="17859" y="13947"/>
                  <a:pt x="17823" y="13972"/>
                  <a:pt x="17785" y="14015"/>
                </a:cubicBezTo>
                <a:cubicBezTo>
                  <a:pt x="17726" y="14081"/>
                  <a:pt x="17659" y="14140"/>
                  <a:pt x="17611" y="14213"/>
                </a:cubicBezTo>
                <a:cubicBezTo>
                  <a:pt x="17582" y="14257"/>
                  <a:pt x="17587" y="14289"/>
                  <a:pt x="17587" y="14337"/>
                </a:cubicBezTo>
                <a:cubicBezTo>
                  <a:pt x="17659" y="14337"/>
                  <a:pt x="17719" y="14353"/>
                  <a:pt x="17785" y="14362"/>
                </a:cubicBezTo>
                <a:cubicBezTo>
                  <a:pt x="17853" y="14371"/>
                  <a:pt x="17891" y="14387"/>
                  <a:pt x="17959" y="14387"/>
                </a:cubicBezTo>
              </a:path>
              <a:path w="1738" h="1067">
                <a:moveTo>
                  <a:pt x="17884" y="14560"/>
                </a:moveTo>
                <a:cubicBezTo>
                  <a:pt x="17892" y="14560"/>
                  <a:pt x="17901" y="14560"/>
                  <a:pt x="17909" y="14560"/>
                </a:cubicBezTo>
                <a:cubicBezTo>
                  <a:pt x="17896" y="14521"/>
                  <a:pt x="17897" y="14550"/>
                  <a:pt x="17884" y="14511"/>
                </a:cubicBezTo>
                <a:cubicBezTo>
                  <a:pt x="17836" y="14501"/>
                  <a:pt x="17800" y="14474"/>
                  <a:pt x="17760" y="14461"/>
                </a:cubicBezTo>
                <a:cubicBezTo>
                  <a:pt x="17735" y="14461"/>
                  <a:pt x="17727" y="14461"/>
                  <a:pt x="17711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4857840"/>
            <a:ext cx="509760" cy="500040"/>
          </a:xfrm>
          <a:custGeom>
            <a:avLst/>
            <a:gdLst/>
            <a:ahLst/>
            <a:rect l="l" t="t" r="r" b="b"/>
            <a:pathLst>
              <a:path w="1415" h="1390">
                <a:moveTo>
                  <a:pt x="18430" y="13891"/>
                </a:moveTo>
                <a:cubicBezTo>
                  <a:pt x="18466" y="13864"/>
                  <a:pt x="18479" y="13833"/>
                  <a:pt x="18479" y="13866"/>
                </a:cubicBezTo>
                <a:cubicBezTo>
                  <a:pt x="18479" y="13961"/>
                  <a:pt x="18465" y="14047"/>
                  <a:pt x="18455" y="14139"/>
                </a:cubicBezTo>
                <a:cubicBezTo>
                  <a:pt x="18446" y="14221"/>
                  <a:pt x="18464" y="14287"/>
                  <a:pt x="18479" y="14362"/>
                </a:cubicBezTo>
              </a:path>
              <a:path w="1415" h="1390">
                <a:moveTo>
                  <a:pt x="18678" y="14312"/>
                </a:moveTo>
                <a:cubicBezTo>
                  <a:pt x="18685" y="14342"/>
                  <a:pt x="18696" y="14357"/>
                  <a:pt x="18703" y="14387"/>
                </a:cubicBezTo>
              </a:path>
              <a:path w="1415" h="1390">
                <a:moveTo>
                  <a:pt x="19050" y="14114"/>
                </a:moveTo>
                <a:cubicBezTo>
                  <a:pt x="19027" y="14087"/>
                  <a:pt x="18973" y="14039"/>
                  <a:pt x="19000" y="13990"/>
                </a:cubicBezTo>
                <a:cubicBezTo>
                  <a:pt x="19030" y="13936"/>
                  <a:pt x="19070" y="13940"/>
                  <a:pt x="19124" y="13940"/>
                </a:cubicBezTo>
                <a:cubicBezTo>
                  <a:pt x="19204" y="13940"/>
                  <a:pt x="19244" y="13959"/>
                  <a:pt x="19248" y="14039"/>
                </a:cubicBezTo>
                <a:cubicBezTo>
                  <a:pt x="19252" y="14138"/>
                  <a:pt x="19238" y="14208"/>
                  <a:pt x="19174" y="14288"/>
                </a:cubicBezTo>
                <a:cubicBezTo>
                  <a:pt x="19124" y="14350"/>
                  <a:pt x="19057" y="14405"/>
                  <a:pt x="19000" y="14461"/>
                </a:cubicBezTo>
                <a:cubicBezTo>
                  <a:pt x="19053" y="14448"/>
                  <a:pt x="19086" y="14417"/>
                  <a:pt x="19149" y="14412"/>
                </a:cubicBezTo>
                <a:cubicBezTo>
                  <a:pt x="19213" y="14407"/>
                  <a:pt x="19240" y="14422"/>
                  <a:pt x="19298" y="14436"/>
                </a:cubicBezTo>
                <a:cubicBezTo>
                  <a:pt x="19342" y="14447"/>
                  <a:pt x="19334" y="14418"/>
                  <a:pt x="19348" y="14461"/>
                </a:cubicBezTo>
              </a:path>
              <a:path w="1415" h="1390">
                <a:moveTo>
                  <a:pt x="19397" y="13543"/>
                </a:moveTo>
                <a:cubicBezTo>
                  <a:pt x="19544" y="13485"/>
                  <a:pt x="19592" y="13484"/>
                  <a:pt x="19720" y="13593"/>
                </a:cubicBezTo>
                <a:cubicBezTo>
                  <a:pt x="19868" y="13719"/>
                  <a:pt x="19859" y="13882"/>
                  <a:pt x="19844" y="14064"/>
                </a:cubicBezTo>
                <a:cubicBezTo>
                  <a:pt x="19825" y="14292"/>
                  <a:pt x="19713" y="14529"/>
                  <a:pt x="19571" y="14709"/>
                </a:cubicBezTo>
                <a:cubicBezTo>
                  <a:pt x="19480" y="14800"/>
                  <a:pt x="19455" y="14825"/>
                  <a:pt x="19397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78040" y="5438880"/>
            <a:ext cx="11772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7689" y="15131"/>
                </a:moveTo>
                <a:cubicBezTo>
                  <a:pt x="7748" y="15106"/>
                  <a:pt x="7787" y="15106"/>
                  <a:pt x="7714" y="15106"/>
                </a:cubicBezTo>
                <a:cubicBezTo>
                  <a:pt x="7662" y="15106"/>
                  <a:pt x="7586" y="15110"/>
                  <a:pt x="7541" y="15131"/>
                </a:cubicBezTo>
                <a:cubicBezTo>
                  <a:pt x="7503" y="15149"/>
                  <a:pt x="7483" y="15170"/>
                  <a:pt x="7441" y="15180"/>
                </a:cubicBezTo>
              </a:path>
              <a:path w="324" h="249">
                <a:moveTo>
                  <a:pt x="7739" y="15329"/>
                </a:moveTo>
                <a:cubicBezTo>
                  <a:pt x="7764" y="15329"/>
                  <a:pt x="7772" y="15329"/>
                  <a:pt x="7764" y="15354"/>
                </a:cubicBezTo>
                <a:cubicBezTo>
                  <a:pt x="7690" y="15354"/>
                  <a:pt x="7615" y="15354"/>
                  <a:pt x="7541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38320" y="5303880"/>
            <a:ext cx="874800" cy="312840"/>
          </a:xfrm>
          <a:custGeom>
            <a:avLst/>
            <a:gdLst/>
            <a:ahLst/>
            <a:rect l="l" t="t" r="r" b="b"/>
            <a:pathLst>
              <a:path w="2432" h="869">
                <a:moveTo>
                  <a:pt x="8186" y="15056"/>
                </a:moveTo>
                <a:cubicBezTo>
                  <a:pt x="8139" y="15041"/>
                  <a:pt x="8180" y="14997"/>
                  <a:pt x="8210" y="14957"/>
                </a:cubicBezTo>
                <a:cubicBezTo>
                  <a:pt x="8250" y="14904"/>
                  <a:pt x="8346" y="14871"/>
                  <a:pt x="8409" y="14883"/>
                </a:cubicBezTo>
                <a:cubicBezTo>
                  <a:pt x="8512" y="14903"/>
                  <a:pt x="8570" y="15043"/>
                  <a:pt x="8582" y="15131"/>
                </a:cubicBezTo>
                <a:cubicBezTo>
                  <a:pt x="8595" y="15226"/>
                  <a:pt x="8569" y="15355"/>
                  <a:pt x="8458" y="15379"/>
                </a:cubicBezTo>
                <a:cubicBezTo>
                  <a:pt x="8394" y="15393"/>
                  <a:pt x="8230" y="15389"/>
                  <a:pt x="8186" y="15329"/>
                </a:cubicBezTo>
                <a:cubicBezTo>
                  <a:pt x="8150" y="15280"/>
                  <a:pt x="8161" y="15212"/>
                  <a:pt x="8161" y="15156"/>
                </a:cubicBezTo>
              </a:path>
              <a:path w="2432" h="869">
                <a:moveTo>
                  <a:pt x="8781" y="15354"/>
                </a:move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  <a:lnTo>
                  <a:pt x="8781" y="15354"/>
                </a:lnTo>
              </a:path>
              <a:path w="2432" h="869">
                <a:moveTo>
                  <a:pt x="8979" y="14858"/>
                </a:moveTo>
                <a:cubicBezTo>
                  <a:pt x="8999" y="14817"/>
                  <a:pt x="8997" y="14801"/>
                  <a:pt x="9029" y="14808"/>
                </a:cubicBezTo>
                <a:cubicBezTo>
                  <a:pt x="8991" y="14818"/>
                  <a:pt x="8923" y="14868"/>
                  <a:pt x="8905" y="14908"/>
                </a:cubicBezTo>
                <a:cubicBezTo>
                  <a:pt x="8853" y="15026"/>
                  <a:pt x="8827" y="15157"/>
                  <a:pt x="8855" y="15280"/>
                </a:cubicBezTo>
                <a:cubicBezTo>
                  <a:pt x="8875" y="15368"/>
                  <a:pt x="8903" y="15432"/>
                  <a:pt x="9004" y="15404"/>
                </a:cubicBezTo>
                <a:cubicBezTo>
                  <a:pt x="9068" y="15386"/>
                  <a:pt x="9118" y="15323"/>
                  <a:pt x="9103" y="15255"/>
                </a:cubicBezTo>
                <a:cubicBezTo>
                  <a:pt x="9088" y="15185"/>
                  <a:pt x="9039" y="15161"/>
                  <a:pt x="8979" y="15156"/>
                </a:cubicBezTo>
                <a:cubicBezTo>
                  <a:pt x="8944" y="15156"/>
                  <a:pt x="8927" y="15160"/>
                  <a:pt x="8905" y="15180"/>
                </a:cubicBezTo>
              </a:path>
              <a:path w="2432" h="869">
                <a:moveTo>
                  <a:pt x="9302" y="14808"/>
                </a:moveTo>
                <a:cubicBezTo>
                  <a:pt x="9324" y="14786"/>
                  <a:pt x="9329" y="14778"/>
                  <a:pt x="9351" y="14784"/>
                </a:cubicBezTo>
                <a:cubicBezTo>
                  <a:pt x="9341" y="14825"/>
                  <a:pt x="9310" y="14870"/>
                  <a:pt x="9302" y="14908"/>
                </a:cubicBezTo>
                <a:cubicBezTo>
                  <a:pt x="9290" y="14967"/>
                  <a:pt x="9298" y="15022"/>
                  <a:pt x="9351" y="15056"/>
                </a:cubicBezTo>
                <a:cubicBezTo>
                  <a:pt x="9400" y="15087"/>
                  <a:pt x="9495" y="15103"/>
                  <a:pt x="9525" y="15156"/>
                </a:cubicBezTo>
                <a:cubicBezTo>
                  <a:pt x="9543" y="15187"/>
                  <a:pt x="9504" y="15246"/>
                  <a:pt x="9475" y="15255"/>
                </a:cubicBezTo>
                <a:cubicBezTo>
                  <a:pt x="9419" y="15271"/>
                  <a:pt x="9325" y="15259"/>
                  <a:pt x="9277" y="15230"/>
                </a:cubicBezTo>
                <a:cubicBezTo>
                  <a:pt x="9269" y="15222"/>
                  <a:pt x="9260" y="15213"/>
                  <a:pt x="9252" y="15205"/>
                </a:cubicBezTo>
              </a:path>
              <a:path w="2432" h="869">
                <a:moveTo>
                  <a:pt x="9624" y="14808"/>
                </a:moveTo>
                <a:cubicBezTo>
                  <a:pt x="9666" y="14767"/>
                  <a:pt x="9674" y="14759"/>
                  <a:pt x="9699" y="14734"/>
                </a:cubicBezTo>
                <a:cubicBezTo>
                  <a:pt x="9617" y="14744"/>
                  <a:pt x="9561" y="14781"/>
                  <a:pt x="9475" y="14784"/>
                </a:cubicBezTo>
                <a:cubicBezTo>
                  <a:pt x="9401" y="14784"/>
                  <a:pt x="9376" y="14784"/>
                  <a:pt x="9327" y="14784"/>
                </a:cubicBezTo>
              </a:path>
              <a:path w="2432" h="869">
                <a:moveTo>
                  <a:pt x="9748" y="14858"/>
                </a:moveTo>
                <a:cubicBezTo>
                  <a:pt x="9748" y="14921"/>
                  <a:pt x="9727" y="14948"/>
                  <a:pt x="9723" y="15007"/>
                </a:cubicBezTo>
                <a:cubicBezTo>
                  <a:pt x="9719" y="15075"/>
                  <a:pt x="9753" y="15160"/>
                  <a:pt x="9823" y="15180"/>
                </a:cubicBezTo>
                <a:cubicBezTo>
                  <a:pt x="9874" y="15195"/>
                  <a:pt x="9961" y="15185"/>
                  <a:pt x="9996" y="15230"/>
                </a:cubicBezTo>
                <a:cubicBezTo>
                  <a:pt x="10016" y="15270"/>
                  <a:pt x="10025" y="15277"/>
                  <a:pt x="10021" y="15304"/>
                </a:cubicBezTo>
                <a:cubicBezTo>
                  <a:pt x="9979" y="15330"/>
                  <a:pt x="9903" y="15364"/>
                  <a:pt x="9847" y="15354"/>
                </a:cubicBezTo>
                <a:cubicBezTo>
                  <a:pt x="9782" y="15332"/>
                  <a:pt x="9767" y="15324"/>
                  <a:pt x="9723" y="15329"/>
                </a:cubicBezTo>
              </a:path>
              <a:path w="2432" h="869">
                <a:moveTo>
                  <a:pt x="10071" y="14759"/>
                </a:moveTo>
                <a:cubicBezTo>
                  <a:pt x="10071" y="14751"/>
                  <a:pt x="10071" y="14742"/>
                  <a:pt x="10071" y="14734"/>
                </a:cubicBezTo>
                <a:cubicBezTo>
                  <a:pt x="10016" y="14748"/>
                  <a:pt x="9957" y="14787"/>
                  <a:pt x="9897" y="14808"/>
                </a:cubicBezTo>
                <a:cubicBezTo>
                  <a:pt x="9872" y="14816"/>
                  <a:pt x="9848" y="14825"/>
                  <a:pt x="9823" y="14833"/>
                </a:cubicBezTo>
              </a:path>
              <a:path w="2432" h="869">
                <a:moveTo>
                  <a:pt x="10120" y="14734"/>
                </a:moveTo>
                <a:cubicBezTo>
                  <a:pt x="10166" y="14749"/>
                  <a:pt x="10145" y="14828"/>
                  <a:pt x="10145" y="14883"/>
                </a:cubicBezTo>
                <a:cubicBezTo>
                  <a:pt x="10145" y="15019"/>
                  <a:pt x="10096" y="15143"/>
                  <a:pt x="10096" y="15280"/>
                </a:cubicBezTo>
                <a:cubicBezTo>
                  <a:pt x="10096" y="15339"/>
                  <a:pt x="10203" y="15339"/>
                  <a:pt x="10244" y="15329"/>
                </a:cubicBezTo>
                <a:cubicBezTo>
                  <a:pt x="10321" y="15310"/>
                  <a:pt x="10391" y="15272"/>
                  <a:pt x="10468" y="15255"/>
                </a:cubicBezTo>
                <a:cubicBezTo>
                  <a:pt x="10538" y="15240"/>
                  <a:pt x="10568" y="15253"/>
                  <a:pt x="10567" y="15255"/>
                </a:cubicBezTo>
                <a:cubicBezTo>
                  <a:pt x="10567" y="15280"/>
                  <a:pt x="10567" y="15288"/>
                  <a:pt x="10542" y="15280"/>
                </a:cubicBezTo>
              </a:path>
              <a:path w="2432" h="869">
                <a:moveTo>
                  <a:pt x="10443" y="15131"/>
                </a:moveTo>
                <a:cubicBezTo>
                  <a:pt x="10368" y="15074"/>
                  <a:pt x="10356" y="15028"/>
                  <a:pt x="10319" y="15081"/>
                </a:cubicBezTo>
                <a:cubicBezTo>
                  <a:pt x="10319" y="15202"/>
                  <a:pt x="10320" y="15310"/>
                  <a:pt x="10344" y="15429"/>
                </a:cubicBezTo>
                <a:cubicBezTo>
                  <a:pt x="10366" y="15520"/>
                  <a:pt x="10372" y="15546"/>
                  <a:pt x="10393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97280" y="5438880"/>
            <a:ext cx="214560" cy="187200"/>
          </a:xfrm>
          <a:custGeom>
            <a:avLst/>
            <a:gdLst/>
            <a:ahLst/>
            <a:rect l="l" t="t" r="r" b="b"/>
            <a:pathLst>
              <a:path w="597" h="522">
                <a:moveTo>
                  <a:pt x="13370" y="15304"/>
                </a:moveTo>
                <a:cubicBezTo>
                  <a:pt x="13437" y="15304"/>
                  <a:pt x="13304" y="15326"/>
                  <a:pt x="13295" y="15329"/>
                </a:cubicBezTo>
                <a:cubicBezTo>
                  <a:pt x="13219" y="15356"/>
                  <a:pt x="13154" y="15354"/>
                  <a:pt x="13072" y="15354"/>
                </a:cubicBezTo>
              </a:path>
              <a:path w="597" h="522">
                <a:moveTo>
                  <a:pt x="13320" y="15404"/>
                </a:moveTo>
                <a:cubicBezTo>
                  <a:pt x="13360" y="15424"/>
                  <a:pt x="13377" y="15422"/>
                  <a:pt x="13370" y="15453"/>
                </a:cubicBezTo>
                <a:cubicBezTo>
                  <a:pt x="13313" y="15499"/>
                  <a:pt x="13245" y="15517"/>
                  <a:pt x="13171" y="15528"/>
                </a:cubicBezTo>
                <a:cubicBezTo>
                  <a:pt x="13115" y="15536"/>
                  <a:pt x="13097" y="15524"/>
                  <a:pt x="13047" y="15503"/>
                </a:cubicBezTo>
              </a:path>
              <a:path w="597" h="522">
                <a:moveTo>
                  <a:pt x="13643" y="15156"/>
                </a:moveTo>
                <a:cubicBezTo>
                  <a:pt x="13643" y="15019"/>
                  <a:pt x="13619" y="15308"/>
                  <a:pt x="13618" y="15329"/>
                </a:cubicBezTo>
                <a:cubicBezTo>
                  <a:pt x="13615" y="15428"/>
                  <a:pt x="13618" y="15528"/>
                  <a:pt x="13618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16680" y="5607000"/>
            <a:ext cx="169560" cy="36720"/>
          </a:xfrm>
          <a:custGeom>
            <a:avLst/>
            <a:gdLst/>
            <a:ahLst/>
            <a:rect l="l" t="t" r="r" b="b"/>
            <a:pathLst>
              <a:path w="472" h="101">
                <a:moveTo>
                  <a:pt x="14263" y="15602"/>
                </a:moveTo>
                <a:cubicBezTo>
                  <a:pt x="14238" y="15602"/>
                  <a:pt x="14230" y="15602"/>
                  <a:pt x="14213" y="15602"/>
                </a:cubicBezTo>
                <a:cubicBezTo>
                  <a:pt x="14259" y="15574"/>
                  <a:pt x="14327" y="15564"/>
                  <a:pt x="14387" y="15577"/>
                </a:cubicBezTo>
                <a:cubicBezTo>
                  <a:pt x="14477" y="15597"/>
                  <a:pt x="14580" y="15599"/>
                  <a:pt x="14660" y="15652"/>
                </a:cubicBezTo>
                <a:cubicBezTo>
                  <a:pt x="14668" y="15660"/>
                  <a:pt x="14676" y="15669"/>
                  <a:pt x="14684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0" y="5446800"/>
            <a:ext cx="1027080" cy="322200"/>
          </a:xfrm>
          <a:custGeom>
            <a:avLst/>
            <a:gdLst/>
            <a:ahLst/>
            <a:rect l="l" t="t" r="r" b="b"/>
            <a:pathLst>
              <a:path w="2853" h="894">
                <a:moveTo>
                  <a:pt x="15478" y="15354"/>
                </a:moveTo>
                <a:cubicBezTo>
                  <a:pt x="15426" y="15354"/>
                  <a:pt x="15429" y="15356"/>
                  <a:pt x="15429" y="15304"/>
                </a:cubicBezTo>
                <a:cubicBezTo>
                  <a:pt x="15429" y="15231"/>
                  <a:pt x="15480" y="15160"/>
                  <a:pt x="15553" y="15131"/>
                </a:cubicBezTo>
                <a:cubicBezTo>
                  <a:pt x="15663" y="15087"/>
                  <a:pt x="15747" y="15228"/>
                  <a:pt x="15776" y="15304"/>
                </a:cubicBezTo>
                <a:cubicBezTo>
                  <a:pt x="15817" y="15411"/>
                  <a:pt x="15836" y="15588"/>
                  <a:pt x="15751" y="15677"/>
                </a:cubicBezTo>
                <a:cubicBezTo>
                  <a:pt x="15685" y="15746"/>
                  <a:pt x="15574" y="15680"/>
                  <a:pt x="15528" y="15627"/>
                </a:cubicBezTo>
                <a:cubicBezTo>
                  <a:pt x="15449" y="15536"/>
                  <a:pt x="15429" y="15469"/>
                  <a:pt x="15429" y="15354"/>
                </a:cubicBezTo>
              </a:path>
              <a:path w="2853" h="894">
                <a:moveTo>
                  <a:pt x="16098" y="15726"/>
                </a:moveTo>
                <a:cubicBezTo>
                  <a:pt x="16090" y="15718"/>
                  <a:pt x="16081" y="15709"/>
                  <a:pt x="16073" y="15701"/>
                </a:cubicBezTo>
              </a:path>
              <a:path w="2853" h="894">
                <a:moveTo>
                  <a:pt x="16570" y="15429"/>
                </a:moveTo>
                <a:cubicBezTo>
                  <a:pt x="16584" y="15425"/>
                  <a:pt x="16707" y="15395"/>
                  <a:pt x="16718" y="15379"/>
                </a:cubicBezTo>
                <a:cubicBezTo>
                  <a:pt x="16718" y="15371"/>
                  <a:pt x="16718" y="15362"/>
                  <a:pt x="16718" y="15354"/>
                </a:cubicBezTo>
                <a:cubicBezTo>
                  <a:pt x="16659" y="15354"/>
                  <a:pt x="16599" y="15345"/>
                  <a:pt x="16545" y="15379"/>
                </a:cubicBezTo>
                <a:cubicBezTo>
                  <a:pt x="16476" y="15422"/>
                  <a:pt x="16405" y="15474"/>
                  <a:pt x="16396" y="15553"/>
                </a:cubicBezTo>
                <a:cubicBezTo>
                  <a:pt x="16387" y="15629"/>
                  <a:pt x="16429" y="15674"/>
                  <a:pt x="16495" y="15701"/>
                </a:cubicBezTo>
                <a:cubicBezTo>
                  <a:pt x="16571" y="15732"/>
                  <a:pt x="16640" y="15739"/>
                  <a:pt x="16669" y="15825"/>
                </a:cubicBezTo>
                <a:cubicBezTo>
                  <a:pt x="16669" y="15850"/>
                  <a:pt x="16669" y="15858"/>
                  <a:pt x="16669" y="15875"/>
                </a:cubicBezTo>
                <a:cubicBezTo>
                  <a:pt x="16604" y="15875"/>
                  <a:pt x="16549" y="15867"/>
                  <a:pt x="16495" y="15825"/>
                </a:cubicBezTo>
                <a:cubicBezTo>
                  <a:pt x="16426" y="15771"/>
                  <a:pt x="16438" y="15725"/>
                  <a:pt x="16470" y="15652"/>
                </a:cubicBezTo>
                <a:cubicBezTo>
                  <a:pt x="16508" y="15565"/>
                  <a:pt x="16547" y="15534"/>
                  <a:pt x="16619" y="15478"/>
                </a:cubicBezTo>
                <a:cubicBezTo>
                  <a:pt x="16652" y="15452"/>
                  <a:pt x="16655" y="15438"/>
                  <a:pt x="16694" y="15429"/>
                </a:cubicBezTo>
              </a:path>
              <a:path w="2853" h="894">
                <a:moveTo>
                  <a:pt x="17165" y="15404"/>
                </a:moveTo>
                <a:cubicBezTo>
                  <a:pt x="17207" y="15349"/>
                  <a:pt x="17227" y="15341"/>
                  <a:pt x="17239" y="15304"/>
                </a:cubicBezTo>
                <a:cubicBezTo>
                  <a:pt x="17185" y="15315"/>
                  <a:pt x="17111" y="15344"/>
                  <a:pt x="17066" y="15379"/>
                </a:cubicBezTo>
                <a:cubicBezTo>
                  <a:pt x="17036" y="15402"/>
                  <a:pt x="16914" y="15483"/>
                  <a:pt x="16917" y="15528"/>
                </a:cubicBezTo>
                <a:cubicBezTo>
                  <a:pt x="16922" y="15606"/>
                  <a:pt x="17017" y="15677"/>
                  <a:pt x="17066" y="15726"/>
                </a:cubicBezTo>
                <a:cubicBezTo>
                  <a:pt x="17127" y="15787"/>
                  <a:pt x="17140" y="15816"/>
                  <a:pt x="17140" y="15900"/>
                </a:cubicBezTo>
                <a:cubicBezTo>
                  <a:pt x="17083" y="15886"/>
                  <a:pt x="17047" y="15854"/>
                  <a:pt x="17016" y="15801"/>
                </a:cubicBezTo>
                <a:cubicBezTo>
                  <a:pt x="16991" y="15759"/>
                  <a:pt x="16940" y="15679"/>
                  <a:pt x="16966" y="15627"/>
                </a:cubicBezTo>
                <a:cubicBezTo>
                  <a:pt x="16988" y="15583"/>
                  <a:pt x="17051" y="15602"/>
                  <a:pt x="17090" y="15602"/>
                </a:cubicBezTo>
              </a:path>
              <a:path w="2853" h="894">
                <a:moveTo>
                  <a:pt x="17462" y="15354"/>
                </a:moveTo>
                <a:cubicBezTo>
                  <a:pt x="17470" y="15329"/>
                  <a:pt x="17479" y="15305"/>
                  <a:pt x="17487" y="15280"/>
                </a:cubicBezTo>
                <a:cubicBezTo>
                  <a:pt x="17475" y="15378"/>
                  <a:pt x="17403" y="15454"/>
                  <a:pt x="17388" y="15553"/>
                </a:cubicBezTo>
                <a:cubicBezTo>
                  <a:pt x="17380" y="15609"/>
                  <a:pt x="17370" y="15786"/>
                  <a:pt x="17438" y="15825"/>
                </a:cubicBezTo>
                <a:cubicBezTo>
                  <a:pt x="17512" y="15867"/>
                  <a:pt x="17686" y="15813"/>
                  <a:pt x="17760" y="15801"/>
                </a:cubicBezTo>
                <a:cubicBezTo>
                  <a:pt x="17818" y="15792"/>
                  <a:pt x="17820" y="15822"/>
                  <a:pt x="17835" y="15776"/>
                </a:cubicBezTo>
              </a:path>
              <a:path w="2853" h="894">
                <a:moveTo>
                  <a:pt x="17735" y="15701"/>
                </a:moveTo>
                <a:cubicBezTo>
                  <a:pt x="17616" y="15676"/>
                  <a:pt x="17556" y="15652"/>
                  <a:pt x="17537" y="15801"/>
                </a:cubicBezTo>
                <a:cubicBezTo>
                  <a:pt x="17537" y="15892"/>
                  <a:pt x="17537" y="15916"/>
                  <a:pt x="17537" y="15974"/>
                </a:cubicBezTo>
              </a:path>
              <a:path w="2853" h="894">
                <a:moveTo>
                  <a:pt x="18231" y="15478"/>
                </a:moveTo>
                <a:cubicBezTo>
                  <a:pt x="18283" y="15418"/>
                  <a:pt x="18281" y="15442"/>
                  <a:pt x="18281" y="15379"/>
                </a:cubicBezTo>
                <a:cubicBezTo>
                  <a:pt x="18204" y="15379"/>
                  <a:pt x="18165" y="15401"/>
                  <a:pt x="18107" y="15453"/>
                </a:cubicBezTo>
                <a:cubicBezTo>
                  <a:pt x="18041" y="15513"/>
                  <a:pt x="17972" y="15578"/>
                  <a:pt x="18008" y="15677"/>
                </a:cubicBezTo>
                <a:cubicBezTo>
                  <a:pt x="18016" y="15685"/>
                  <a:pt x="18025" y="15693"/>
                  <a:pt x="18033" y="15701"/>
                </a:cubicBezTo>
                <a:cubicBezTo>
                  <a:pt x="18102" y="15647"/>
                  <a:pt x="18127" y="15598"/>
                  <a:pt x="18182" y="15528"/>
                </a:cubicBezTo>
                <a:cubicBezTo>
                  <a:pt x="18263" y="15549"/>
                  <a:pt x="18274" y="15677"/>
                  <a:pt x="18281" y="15751"/>
                </a:cubicBezTo>
                <a:cubicBezTo>
                  <a:pt x="18281" y="15883"/>
                  <a:pt x="18281" y="15933"/>
                  <a:pt x="1828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05200" y="5938920"/>
            <a:ext cx="1019160" cy="222120"/>
          </a:xfrm>
          <a:custGeom>
            <a:avLst/>
            <a:gdLst/>
            <a:ahLst/>
            <a:rect l="l" t="t" r="r" b="b"/>
            <a:pathLst>
              <a:path w="2829" h="621">
                <a:moveTo>
                  <a:pt x="13370" y="16594"/>
                </a:moveTo>
                <a:cubicBezTo>
                  <a:pt x="13393" y="16572"/>
                  <a:pt x="13401" y="16567"/>
                  <a:pt x="13395" y="16545"/>
                </a:cubicBezTo>
                <a:cubicBezTo>
                  <a:pt x="13290" y="16545"/>
                  <a:pt x="13188" y="16548"/>
                  <a:pt x="13097" y="16520"/>
                </a:cubicBezTo>
                <a:cubicBezTo>
                  <a:pt x="13089" y="16520"/>
                  <a:pt x="13080" y="16520"/>
                  <a:pt x="13072" y="16520"/>
                </a:cubicBezTo>
              </a:path>
              <a:path w="2829" h="621">
                <a:moveTo>
                  <a:pt x="13419" y="16818"/>
                </a:moveTo>
                <a:cubicBezTo>
                  <a:pt x="13427" y="16834"/>
                  <a:pt x="13436" y="16851"/>
                  <a:pt x="13444" y="16867"/>
                </a:cubicBezTo>
                <a:cubicBezTo>
                  <a:pt x="13346" y="16867"/>
                  <a:pt x="13262" y="16857"/>
                  <a:pt x="13171" y="16842"/>
                </a:cubicBezTo>
                <a:cubicBezTo>
                  <a:pt x="13130" y="16842"/>
                  <a:pt x="13122" y="16842"/>
                  <a:pt x="13097" y="16842"/>
                </a:cubicBezTo>
              </a:path>
              <a:path w="2829" h="621">
                <a:moveTo>
                  <a:pt x="13643" y="16669"/>
                </a:moveTo>
                <a:cubicBezTo>
                  <a:pt x="13679" y="16656"/>
                  <a:pt x="13667" y="16638"/>
                  <a:pt x="13667" y="16594"/>
                </a:cubicBezTo>
                <a:cubicBezTo>
                  <a:pt x="13667" y="16515"/>
                  <a:pt x="13777" y="16483"/>
                  <a:pt x="13841" y="16495"/>
                </a:cubicBezTo>
                <a:cubicBezTo>
                  <a:pt x="13979" y="16521"/>
                  <a:pt x="14007" y="16591"/>
                  <a:pt x="14015" y="16718"/>
                </a:cubicBezTo>
                <a:cubicBezTo>
                  <a:pt x="14021" y="16813"/>
                  <a:pt x="13997" y="16899"/>
                  <a:pt x="13891" y="16917"/>
                </a:cubicBezTo>
                <a:cubicBezTo>
                  <a:pt x="13805" y="16932"/>
                  <a:pt x="13707" y="16869"/>
                  <a:pt x="13643" y="16818"/>
                </a:cubicBezTo>
                <a:cubicBezTo>
                  <a:pt x="13626" y="16801"/>
                  <a:pt x="13610" y="16785"/>
                  <a:pt x="13593" y="16768"/>
                </a:cubicBezTo>
              </a:path>
              <a:path w="2829" h="621">
                <a:moveTo>
                  <a:pt x="14263" y="16942"/>
                </a:moveTo>
                <a:cubicBezTo>
                  <a:pt x="14263" y="16950"/>
                  <a:pt x="14263" y="16958"/>
                  <a:pt x="14263" y="16966"/>
                </a:cubicBezTo>
              </a:path>
              <a:path w="2829" h="621">
                <a:moveTo>
                  <a:pt x="14536" y="16718"/>
                </a:moveTo>
                <a:cubicBezTo>
                  <a:pt x="14536" y="16642"/>
                  <a:pt x="14541" y="16605"/>
                  <a:pt x="14560" y="16545"/>
                </a:cubicBezTo>
                <a:cubicBezTo>
                  <a:pt x="14560" y="16537"/>
                  <a:pt x="14560" y="16528"/>
                  <a:pt x="14560" y="16520"/>
                </a:cubicBezTo>
                <a:cubicBezTo>
                  <a:pt x="14530" y="16602"/>
                  <a:pt x="14520" y="16705"/>
                  <a:pt x="14511" y="16793"/>
                </a:cubicBezTo>
                <a:cubicBezTo>
                  <a:pt x="14505" y="16849"/>
                  <a:pt x="14511" y="16909"/>
                  <a:pt x="14511" y="16966"/>
                </a:cubicBezTo>
              </a:path>
              <a:path w="2829" h="621">
                <a:moveTo>
                  <a:pt x="14908" y="16520"/>
                </a:moveTo>
                <a:cubicBezTo>
                  <a:pt x="14916" y="16512"/>
                  <a:pt x="14924" y="16503"/>
                  <a:pt x="14932" y="16495"/>
                </a:cubicBezTo>
                <a:cubicBezTo>
                  <a:pt x="14932" y="16574"/>
                  <a:pt x="14895" y="16617"/>
                  <a:pt x="14883" y="16694"/>
                </a:cubicBezTo>
                <a:cubicBezTo>
                  <a:pt x="14873" y="16756"/>
                  <a:pt x="14883" y="16829"/>
                  <a:pt x="14883" y="16892"/>
                </a:cubicBezTo>
              </a:path>
              <a:path w="2829" h="621">
                <a:moveTo>
                  <a:pt x="15404" y="16669"/>
                </a:moveTo>
                <a:cubicBezTo>
                  <a:pt x="15396" y="16644"/>
                  <a:pt x="15387" y="16619"/>
                  <a:pt x="15379" y="16594"/>
                </a:cubicBezTo>
                <a:cubicBezTo>
                  <a:pt x="15330" y="16643"/>
                  <a:pt x="15263" y="16689"/>
                  <a:pt x="15280" y="16768"/>
                </a:cubicBezTo>
                <a:cubicBezTo>
                  <a:pt x="15305" y="16886"/>
                  <a:pt x="15363" y="16866"/>
                  <a:pt x="15453" y="16892"/>
                </a:cubicBezTo>
                <a:cubicBezTo>
                  <a:pt x="15504" y="16907"/>
                  <a:pt x="15571" y="16937"/>
                  <a:pt x="15577" y="16991"/>
                </a:cubicBezTo>
                <a:cubicBezTo>
                  <a:pt x="15584" y="17058"/>
                  <a:pt x="15500" y="17064"/>
                  <a:pt x="15453" y="17066"/>
                </a:cubicBezTo>
                <a:cubicBezTo>
                  <a:pt x="15387" y="17069"/>
                  <a:pt x="15321" y="17066"/>
                  <a:pt x="15255" y="17066"/>
                </a:cubicBezTo>
              </a:path>
              <a:path w="2829" h="621">
                <a:moveTo>
                  <a:pt x="15652" y="16743"/>
                </a:moveTo>
                <a:cubicBezTo>
                  <a:pt x="15689" y="16687"/>
                  <a:pt x="15706" y="16683"/>
                  <a:pt x="15701" y="16644"/>
                </a:cubicBezTo>
                <a:cubicBezTo>
                  <a:pt x="15617" y="16601"/>
                  <a:pt x="15528" y="16641"/>
                  <a:pt x="15429" y="16644"/>
                </a:cubicBezTo>
                <a:cubicBezTo>
                  <a:pt x="15340" y="16647"/>
                  <a:pt x="15267" y="16662"/>
                  <a:pt x="15180" y="16669"/>
                </a:cubicBezTo>
              </a:path>
              <a:path w="2829" h="621">
                <a:moveTo>
                  <a:pt x="15751" y="16594"/>
                </a:moveTo>
                <a:cubicBezTo>
                  <a:pt x="15845" y="16576"/>
                  <a:pt x="15864" y="16547"/>
                  <a:pt x="15900" y="16594"/>
                </a:cubicBezTo>
                <a:cubicBezTo>
                  <a:pt x="15900" y="16707"/>
                  <a:pt x="15885" y="16807"/>
                  <a:pt x="15875" y="16917"/>
                </a:cubicBezTo>
                <a:cubicBezTo>
                  <a:pt x="15875" y="17017"/>
                  <a:pt x="15875" y="17051"/>
                  <a:pt x="15850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5360" y="4749840"/>
            <a:ext cx="1330560" cy="484200"/>
          </a:xfrm>
          <a:custGeom>
            <a:avLst/>
            <a:gdLst/>
            <a:ahLst/>
            <a:rect l="l" t="t" r="r" b="b"/>
            <a:pathLst>
              <a:path w="3697" h="1341">
                <a:moveTo>
                  <a:pt x="3225" y="13643"/>
                </a:moveTo>
                <a:cubicBezTo>
                  <a:pt x="3187" y="13630"/>
                  <a:pt x="3200" y="13613"/>
                  <a:pt x="3200" y="13568"/>
                </a:cubicBezTo>
                <a:cubicBezTo>
                  <a:pt x="3200" y="13543"/>
                  <a:pt x="3200" y="13535"/>
                  <a:pt x="3200" y="13519"/>
                </a:cubicBezTo>
                <a:cubicBezTo>
                  <a:pt x="3200" y="13465"/>
                  <a:pt x="3152" y="13724"/>
                  <a:pt x="3150" y="13742"/>
                </a:cubicBezTo>
                <a:cubicBezTo>
                  <a:pt x="3129" y="13969"/>
                  <a:pt x="3150" y="14207"/>
                  <a:pt x="3150" y="14436"/>
                </a:cubicBezTo>
              </a:path>
              <a:path w="3697" h="1341">
                <a:moveTo>
                  <a:pt x="3225" y="13667"/>
                </a:moveTo>
                <a:cubicBezTo>
                  <a:pt x="3185" y="13633"/>
                  <a:pt x="3140" y="13614"/>
                  <a:pt x="3125" y="13568"/>
                </a:cubicBezTo>
                <a:cubicBezTo>
                  <a:pt x="3109" y="13521"/>
                  <a:pt x="3194" y="13462"/>
                  <a:pt x="3225" y="13444"/>
                </a:cubicBezTo>
                <a:cubicBezTo>
                  <a:pt x="3316" y="13390"/>
                  <a:pt x="3376" y="13429"/>
                  <a:pt x="3423" y="13519"/>
                </a:cubicBezTo>
                <a:cubicBezTo>
                  <a:pt x="3459" y="13588"/>
                  <a:pt x="3463" y="13758"/>
                  <a:pt x="3398" y="13816"/>
                </a:cubicBezTo>
                <a:cubicBezTo>
                  <a:pt x="3365" y="13846"/>
                  <a:pt x="3242" y="13875"/>
                  <a:pt x="3200" y="13891"/>
                </a:cubicBezTo>
              </a:path>
              <a:path w="3697" h="1341">
                <a:moveTo>
                  <a:pt x="3696" y="13271"/>
                </a:moveTo>
                <a:cubicBezTo>
                  <a:pt x="3704" y="13254"/>
                  <a:pt x="3713" y="13238"/>
                  <a:pt x="3721" y="13221"/>
                </a:cubicBezTo>
                <a:cubicBezTo>
                  <a:pt x="3693" y="13193"/>
                  <a:pt x="3620" y="13366"/>
                  <a:pt x="3597" y="13419"/>
                </a:cubicBezTo>
                <a:cubicBezTo>
                  <a:pt x="3519" y="13601"/>
                  <a:pt x="3537" y="13798"/>
                  <a:pt x="3572" y="13990"/>
                </a:cubicBezTo>
                <a:cubicBezTo>
                  <a:pt x="3591" y="14096"/>
                  <a:pt x="3632" y="14157"/>
                  <a:pt x="3696" y="14238"/>
                </a:cubicBezTo>
              </a:path>
              <a:path w="3697" h="1341">
                <a:moveTo>
                  <a:pt x="4093" y="13568"/>
                </a:moveTo>
                <a:cubicBezTo>
                  <a:pt x="4085" y="13560"/>
                  <a:pt x="4076" y="13551"/>
                  <a:pt x="4068" y="13543"/>
                </a:cubicBezTo>
                <a:cubicBezTo>
                  <a:pt x="4088" y="13603"/>
                  <a:pt x="4085" y="13542"/>
                  <a:pt x="4118" y="13519"/>
                </a:cubicBezTo>
                <a:cubicBezTo>
                  <a:pt x="4176" y="13479"/>
                  <a:pt x="4274" y="13433"/>
                  <a:pt x="4341" y="13419"/>
                </a:cubicBezTo>
                <a:cubicBezTo>
                  <a:pt x="4382" y="13419"/>
                  <a:pt x="4390" y="13419"/>
                  <a:pt x="4415" y="13419"/>
                </a:cubicBezTo>
                <a:cubicBezTo>
                  <a:pt x="4415" y="13502"/>
                  <a:pt x="4406" y="13523"/>
                  <a:pt x="4366" y="13593"/>
                </a:cubicBezTo>
                <a:cubicBezTo>
                  <a:pt x="4322" y="13670"/>
                  <a:pt x="4252" y="13736"/>
                  <a:pt x="4217" y="13816"/>
                </a:cubicBezTo>
                <a:cubicBezTo>
                  <a:pt x="4188" y="13884"/>
                  <a:pt x="4142" y="13954"/>
                  <a:pt x="4192" y="14015"/>
                </a:cubicBezTo>
                <a:cubicBezTo>
                  <a:pt x="4231" y="14063"/>
                  <a:pt x="4316" y="14028"/>
                  <a:pt x="4366" y="14015"/>
                </a:cubicBezTo>
                <a:cubicBezTo>
                  <a:pt x="4440" y="13996"/>
                  <a:pt x="4489" y="13990"/>
                  <a:pt x="4564" y="13990"/>
                </a:cubicBezTo>
              </a:path>
              <a:path w="3697" h="1341">
                <a:moveTo>
                  <a:pt x="4887" y="13593"/>
                </a:moveTo>
                <a:cubicBezTo>
                  <a:pt x="4937" y="13549"/>
                  <a:pt x="4966" y="13550"/>
                  <a:pt x="5011" y="13519"/>
                </a:cubicBezTo>
                <a:cubicBezTo>
                  <a:pt x="5019" y="13511"/>
                  <a:pt x="5027" y="13502"/>
                  <a:pt x="5035" y="13494"/>
                </a:cubicBezTo>
                <a:cubicBezTo>
                  <a:pt x="4997" y="13561"/>
                  <a:pt x="4943" y="13627"/>
                  <a:pt x="4911" y="13692"/>
                </a:cubicBezTo>
                <a:cubicBezTo>
                  <a:pt x="4886" y="13743"/>
                  <a:pt x="4843" y="13834"/>
                  <a:pt x="4837" y="13891"/>
                </a:cubicBezTo>
                <a:cubicBezTo>
                  <a:pt x="4837" y="13899"/>
                  <a:pt x="4837" y="13907"/>
                  <a:pt x="4837" y="13915"/>
                </a:cubicBezTo>
                <a:cubicBezTo>
                  <a:pt x="4901" y="13915"/>
                  <a:pt x="4927" y="13905"/>
                  <a:pt x="4986" y="13891"/>
                </a:cubicBezTo>
                <a:cubicBezTo>
                  <a:pt x="5029" y="13881"/>
                  <a:pt x="5064" y="13866"/>
                  <a:pt x="5110" y="13866"/>
                </a:cubicBezTo>
              </a:path>
              <a:path w="3697" h="1341">
                <a:moveTo>
                  <a:pt x="5159" y="14139"/>
                </a:moveTo>
                <a:cubicBezTo>
                  <a:pt x="5146" y="14179"/>
                  <a:pt x="5080" y="14154"/>
                  <a:pt x="5035" y="14139"/>
                </a:cubicBezTo>
                <a:cubicBezTo>
                  <a:pt x="5019" y="14131"/>
                  <a:pt x="5002" y="14122"/>
                  <a:pt x="4986" y="14114"/>
                </a:cubicBezTo>
              </a:path>
              <a:path w="3697" h="1341">
                <a:moveTo>
                  <a:pt x="5556" y="13915"/>
                </a:moveTo>
                <a:cubicBezTo>
                  <a:pt x="5496" y="13901"/>
                  <a:pt x="5507" y="13876"/>
                  <a:pt x="5507" y="13816"/>
                </a:cubicBezTo>
                <a:cubicBezTo>
                  <a:pt x="5507" y="13725"/>
                  <a:pt x="5544" y="13694"/>
                  <a:pt x="5606" y="13643"/>
                </a:cubicBezTo>
                <a:cubicBezTo>
                  <a:pt x="5678" y="13583"/>
                  <a:pt x="5720" y="13705"/>
                  <a:pt x="5730" y="13767"/>
                </a:cubicBezTo>
                <a:cubicBezTo>
                  <a:pt x="5743" y="13852"/>
                  <a:pt x="5750" y="13959"/>
                  <a:pt x="5680" y="14015"/>
                </a:cubicBezTo>
                <a:cubicBezTo>
                  <a:pt x="5616" y="14067"/>
                  <a:pt x="5525" y="14033"/>
                  <a:pt x="5457" y="14015"/>
                </a:cubicBezTo>
              </a:path>
              <a:path w="3697" h="1341">
                <a:moveTo>
                  <a:pt x="5978" y="14015"/>
                </a:moveTo>
                <a:cubicBezTo>
                  <a:pt x="5986" y="14015"/>
                  <a:pt x="5995" y="14015"/>
                  <a:pt x="6003" y="14015"/>
                </a:cubicBezTo>
              </a:path>
              <a:path w="3697" h="1341">
                <a:moveTo>
                  <a:pt x="6077" y="13692"/>
                </a:moveTo>
                <a:cubicBezTo>
                  <a:pt x="6111" y="13634"/>
                  <a:pt x="6111" y="13618"/>
                  <a:pt x="6176" y="13618"/>
                </a:cubicBezTo>
                <a:cubicBezTo>
                  <a:pt x="6176" y="13699"/>
                  <a:pt x="6175" y="13763"/>
                  <a:pt x="6152" y="13841"/>
                </a:cubicBezTo>
                <a:cubicBezTo>
                  <a:pt x="6129" y="13920"/>
                  <a:pt x="6106" y="13989"/>
                  <a:pt x="6152" y="14064"/>
                </a:cubicBezTo>
                <a:cubicBezTo>
                  <a:pt x="6180" y="14111"/>
                  <a:pt x="6240" y="14088"/>
                  <a:pt x="6276" y="14064"/>
                </a:cubicBezTo>
                <a:cubicBezTo>
                  <a:pt x="6332" y="14026"/>
                  <a:pt x="6354" y="14015"/>
                  <a:pt x="6424" y="14015"/>
                </a:cubicBezTo>
                <a:cubicBezTo>
                  <a:pt x="6429" y="14015"/>
                  <a:pt x="6523" y="14038"/>
                  <a:pt x="6524" y="14039"/>
                </a:cubicBezTo>
                <a:cubicBezTo>
                  <a:pt x="6524" y="14064"/>
                  <a:pt x="6524" y="14072"/>
                  <a:pt x="6524" y="14089"/>
                </a:cubicBezTo>
              </a:path>
              <a:path w="3697" h="1341">
                <a:moveTo>
                  <a:pt x="6375" y="13990"/>
                </a:moveTo>
                <a:cubicBezTo>
                  <a:pt x="6319" y="13934"/>
                  <a:pt x="6322" y="13909"/>
                  <a:pt x="6276" y="13915"/>
                </a:cubicBezTo>
                <a:cubicBezTo>
                  <a:pt x="6276" y="13973"/>
                  <a:pt x="6276" y="14031"/>
                  <a:pt x="6276" y="14089"/>
                </a:cubicBezTo>
              </a:path>
              <a:path w="3697" h="1341">
                <a:moveTo>
                  <a:pt x="6325" y="13568"/>
                </a:moveTo>
                <a:cubicBezTo>
                  <a:pt x="6384" y="13443"/>
                  <a:pt x="6440" y="13307"/>
                  <a:pt x="6598" y="13444"/>
                </a:cubicBezTo>
                <a:cubicBezTo>
                  <a:pt x="6762" y="13586"/>
                  <a:pt x="6811" y="13867"/>
                  <a:pt x="6821" y="14064"/>
                </a:cubicBezTo>
                <a:cubicBezTo>
                  <a:pt x="6831" y="14263"/>
                  <a:pt x="6770" y="14390"/>
                  <a:pt x="664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52840" y="4919760"/>
            <a:ext cx="41112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7565" y="13940"/>
                </a:moveTo>
                <a:cubicBezTo>
                  <a:pt x="7582" y="13940"/>
                  <a:pt x="7598" y="13940"/>
                  <a:pt x="7615" y="13940"/>
                </a:cubicBezTo>
                <a:cubicBezTo>
                  <a:pt x="7562" y="13940"/>
                  <a:pt x="7545" y="13960"/>
                  <a:pt x="7491" y="13965"/>
                </a:cubicBezTo>
                <a:cubicBezTo>
                  <a:pt x="7434" y="13970"/>
                  <a:pt x="7411" y="13957"/>
                  <a:pt x="7367" y="13990"/>
                </a:cubicBezTo>
              </a:path>
              <a:path w="1142" h="572">
                <a:moveTo>
                  <a:pt x="7689" y="14114"/>
                </a:moveTo>
                <a:cubicBezTo>
                  <a:pt x="7747" y="14133"/>
                  <a:pt x="7772" y="14123"/>
                  <a:pt x="7764" y="14163"/>
                </a:cubicBezTo>
                <a:cubicBezTo>
                  <a:pt x="7749" y="14185"/>
                  <a:pt x="7662" y="14206"/>
                  <a:pt x="7615" y="14213"/>
                </a:cubicBezTo>
                <a:cubicBezTo>
                  <a:pt x="7556" y="14222"/>
                  <a:pt x="7540" y="14208"/>
                  <a:pt x="7491" y="14238"/>
                </a:cubicBezTo>
              </a:path>
              <a:path w="1142" h="572">
                <a:moveTo>
                  <a:pt x="8136" y="13915"/>
                </a:moveTo>
                <a:cubicBezTo>
                  <a:pt x="8090" y="13915"/>
                  <a:pt x="8078" y="13935"/>
                  <a:pt x="8037" y="13940"/>
                </a:cubicBezTo>
                <a:cubicBezTo>
                  <a:pt x="8029" y="13940"/>
                  <a:pt x="8020" y="13940"/>
                  <a:pt x="8012" y="13940"/>
                </a:cubicBezTo>
                <a:cubicBezTo>
                  <a:pt x="8012" y="13848"/>
                  <a:pt x="8014" y="13841"/>
                  <a:pt x="8062" y="13767"/>
                </a:cubicBezTo>
                <a:cubicBezTo>
                  <a:pt x="8099" y="13709"/>
                  <a:pt x="8182" y="13653"/>
                  <a:pt x="8260" y="13667"/>
                </a:cubicBezTo>
                <a:cubicBezTo>
                  <a:pt x="8377" y="13688"/>
                  <a:pt x="8445" y="13813"/>
                  <a:pt x="8483" y="13915"/>
                </a:cubicBezTo>
                <a:cubicBezTo>
                  <a:pt x="8519" y="14012"/>
                  <a:pt x="8503" y="14171"/>
                  <a:pt x="8384" y="14213"/>
                </a:cubicBezTo>
                <a:cubicBezTo>
                  <a:pt x="8291" y="14246"/>
                  <a:pt x="8162" y="14198"/>
                  <a:pt x="8111" y="14114"/>
                </a:cubicBezTo>
                <a:cubicBezTo>
                  <a:pt x="8087" y="14041"/>
                  <a:pt x="8078" y="14017"/>
                  <a:pt x="8086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0.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lt; -0.49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find P(Z &gt; -1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4200" y="2346480"/>
            <a:ext cx="144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200" y="4363920"/>
            <a:ext cx="302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2808360" cy="130788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6920" y="2435400"/>
            <a:ext cx="1440" cy="19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502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076720" y="2347560"/>
            <a:ext cx="180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4365720"/>
            <a:ext cx="3021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9800" y="2638440"/>
            <a:ext cx="2808360" cy="1308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9800" y="2436840"/>
            <a:ext cx="1440" cy="19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3800" y="45036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805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551664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4724280"/>
            <a:ext cx="50472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4437000"/>
            <a:ext cx="5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3789360"/>
            <a:ext cx="50508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4149720"/>
            <a:ext cx="503280" cy="19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5157720"/>
            <a:ext cx="504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1080" y="551664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34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1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9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780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10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0436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80536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516640"/>
            <a:ext cx="2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4724280"/>
            <a:ext cx="21600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4437000"/>
            <a:ext cx="21600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3789360"/>
            <a:ext cx="21600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4149720"/>
            <a:ext cx="215640" cy="194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360" y="5157720"/>
            <a:ext cx="215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1080" y="5516640"/>
            <a:ext cx="2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5734080"/>
            <a:ext cx="288720" cy="34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5229360"/>
            <a:ext cx="287280" cy="82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4581360"/>
            <a:ext cx="288720" cy="14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4221000"/>
            <a:ext cx="287280" cy="18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3933720"/>
            <a:ext cx="289080" cy="212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4365720"/>
            <a:ext cx="287640" cy="16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2000" y="5300640"/>
            <a:ext cx="289080" cy="7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5661000"/>
            <a:ext cx="215640" cy="3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2890800" cy="47084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-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-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-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-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557360"/>
            <a:ext cx="3024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ch area of the graph represents the people less than 162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3860640"/>
            <a:ext cx="2376720" cy="2232360"/>
          </a:xfrm>
          <a:custGeom>
            <a:avLst/>
            <a:gdLst/>
            <a:ahLst/>
            <a:rect l="l" t="t" r="r" b="b"/>
            <a:pathLst>
              <a:path w="1497" h="1406">
                <a:moveTo>
                  <a:pt x="1497" y="1406"/>
                </a:moveTo>
                <a:lnTo>
                  <a:pt x="1497" y="0"/>
                </a:lnTo>
                <a:lnTo>
                  <a:pt x="1361" y="46"/>
                </a:lnTo>
                <a:lnTo>
                  <a:pt x="998" y="590"/>
                </a:lnTo>
                <a:lnTo>
                  <a:pt x="227" y="1270"/>
                </a:lnTo>
                <a:lnTo>
                  <a:pt x="0" y="1406"/>
                </a:lnTo>
                <a:lnTo>
                  <a:pt x="1497" y="14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53040" y="3860640"/>
            <a:ext cx="4566960" cy="2232360"/>
          </a:xfrm>
          <a:custGeom>
            <a:avLst/>
            <a:gdLst/>
            <a:ahLst/>
            <a:rect l="l" t="t" r="r" b="b"/>
            <a:pathLst>
              <a:path w="2877" h="1406">
                <a:moveTo>
                  <a:pt x="338" y="1243"/>
                </a:moveTo>
                <a:cubicBezTo>
                  <a:pt x="322" y="1254"/>
                  <a:pt x="309" y="1270"/>
                  <a:pt x="292" y="1280"/>
                </a:cubicBezTo>
                <a:cubicBezTo>
                  <a:pt x="256" y="1301"/>
                  <a:pt x="205" y="1297"/>
                  <a:pt x="164" y="1307"/>
                </a:cubicBezTo>
                <a:cubicBezTo>
                  <a:pt x="116" y="1356"/>
                  <a:pt x="118" y="1355"/>
                  <a:pt x="55" y="1371"/>
                </a:cubicBezTo>
                <a:cubicBezTo>
                  <a:pt x="28" y="1398"/>
                  <a:pt x="45" y="1390"/>
                  <a:pt x="0" y="1390"/>
                </a:cubicBezTo>
                <a:lnTo>
                  <a:pt x="2877" y="1406"/>
                </a:lnTo>
                <a:lnTo>
                  <a:pt x="2650" y="1270"/>
                </a:lnTo>
                <a:lnTo>
                  <a:pt x="2288" y="1089"/>
                </a:lnTo>
                <a:lnTo>
                  <a:pt x="2061" y="771"/>
                </a:lnTo>
                <a:lnTo>
                  <a:pt x="1789" y="227"/>
                </a:lnTo>
                <a:lnTo>
                  <a:pt x="1607" y="0"/>
                </a:lnTo>
                <a:lnTo>
                  <a:pt x="1471" y="0"/>
                </a:lnTo>
                <a:lnTo>
                  <a:pt x="1426" y="46"/>
                </a:lnTo>
                <a:lnTo>
                  <a:pt x="1108" y="544"/>
                </a:lnTo>
                <a:lnTo>
                  <a:pt x="836" y="771"/>
                </a:lnTo>
                <a:lnTo>
                  <a:pt x="292" y="127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67280" y="1773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557360"/>
            <a:ext cx="3024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ch area of the graph represents the people less than 150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5373720"/>
            <a:ext cx="1008000" cy="719280"/>
          </a:xfrm>
          <a:custGeom>
            <a:avLst/>
            <a:gdLst/>
            <a:ahLst/>
            <a:rect l="l" t="t" r="r" b="b"/>
            <a:pathLst>
              <a:path w="635" h="453">
                <a:moveTo>
                  <a:pt x="635" y="453"/>
                </a:moveTo>
                <a:lnTo>
                  <a:pt x="635" y="0"/>
                </a:lnTo>
                <a:lnTo>
                  <a:pt x="272" y="317"/>
                </a:lnTo>
                <a:lnTo>
                  <a:pt x="0" y="453"/>
                </a:lnTo>
                <a:lnTo>
                  <a:pt x="635" y="45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377676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860640"/>
            <a:ext cx="302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could we use that to find the people more than 150c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628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tandard normal distribution, such that the mean = 0 and the standard deviation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3528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587700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3357720"/>
            <a:ext cx="3816360" cy="2100240"/>
          </a:xfrm>
          <a:custGeom>
            <a:avLst/>
            <a:gdLst/>
            <a:ahLst/>
            <a:rect l="l" t="t" r="r" b="b"/>
            <a:pathLst>
              <a:path w="2404" h="1323">
                <a:moveTo>
                  <a:pt x="0" y="1323"/>
                </a:moveTo>
                <a:cubicBezTo>
                  <a:pt x="256" y="1111"/>
                  <a:pt x="513" y="900"/>
                  <a:pt x="725" y="688"/>
                </a:cubicBezTo>
                <a:cubicBezTo>
                  <a:pt x="937" y="476"/>
                  <a:pt x="1073" y="0"/>
                  <a:pt x="1270" y="53"/>
                </a:cubicBezTo>
                <a:cubicBezTo>
                  <a:pt x="1467" y="106"/>
                  <a:pt x="1716" y="794"/>
                  <a:pt x="1905" y="1006"/>
                </a:cubicBezTo>
                <a:cubicBezTo>
                  <a:pt x="2094" y="1218"/>
                  <a:pt x="2249" y="1270"/>
                  <a:pt x="2404" y="13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781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595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2637000"/>
            <a:ext cx="2737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can convert any other distribution to the standard 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now, we´ll practise using the standard normal distribution, which we call ´Z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ula for P(Z &lt;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\frac{1}{\sigma \sqrt{2\pi} } \exp \left(-\frac{(x-\mu)^2}{2\sigma ^2} \right) "/>
          <p:cNvPicPr/>
          <p:nvPr/>
        </p:nvPicPr>
        <p:blipFill>
          <a:blip r:embed="rId1"/>
          <a:stretch/>
        </p:blipFill>
        <p:spPr>
          <a:xfrm>
            <a:off x="1547640" y="2565360"/>
            <a:ext cx="3699000" cy="93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79640" y="2205000"/>
            <a:ext cx="2735280" cy="2448000"/>
          </a:xfrm>
          <a:prstGeom prst="noSmoking">
            <a:avLst>
              <a:gd name="adj" fmla="val 12500"/>
            </a:avLst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4797360"/>
            <a:ext cx="302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ain, life is too short. We look up values in a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standard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3:29:12Z</dcterms:created>
  <dc:creator>N Holden</dc:creator>
  <dc:description/>
  <dc:language>en-US</dc:language>
  <cp:lastModifiedBy>N Holden</cp:lastModifiedBy>
  <dcterms:modified xsi:type="dcterms:W3CDTF">2008-12-17T11:43:20Z</dcterms:modified>
  <cp:revision>6</cp:revision>
  <dc:subject/>
  <dc:title>L.O. Use the normal distribution</dc:title>
</cp:coreProperties>
</file>